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17FC9-1C83-4049-8722-C6CD85B3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381E3-08FA-4950-BF22-6F148990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B20A6-66CB-4CAE-9595-B03ABB0A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7885E-4A57-4B42-9380-2829D75B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DCDE-C34A-4CC6-A517-0445B52A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26C9-852A-445F-918B-AA86B110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507E-E7E9-4833-8F57-2BC3F421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45D4-5F17-4CC4-BB31-5DE5C81F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50BA-2985-432D-BD62-846617FE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A33C-242B-4EDB-B4B9-BCB6A82E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FEAD-2E2F-4125-A114-0A1AFFF1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95A76-94E9-4057-B813-98D73FA8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1B64-13AA-4394-A609-2319469E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5FD1-08CF-43DD-A306-AA8CDEB1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0077-BA43-4622-ACC9-A5B0F696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E32C-AC3A-4339-B3E3-FA911320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31FA-5E84-479D-91F5-5BCE5B36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BB14A-B381-4E3B-8588-A7023BBC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887D0-D163-42B0-8854-5575CEF7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18DD7-B3B2-4E41-A310-B6BA3DE3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FDCC5-64E9-43FD-B9E7-309A9161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8965F-6C5B-46CB-9775-9848E7FE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1A076-1FB3-4731-AF5D-AB32B38B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33E72-9D6F-4753-926D-912B0833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FDB3-6AB2-4BBD-A379-1E21466297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063D-85E2-43D8-A973-017F41A75D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18288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etrolul mi</a:t>
            </a:r>
            <a:r>
              <a:rPr b="0" lang="ro-RO" sz="5000" spc="-1" strike="noStrike">
                <a:solidFill>
                  <a:srgbClr val="ffffff"/>
                </a:solidFill>
                <a:latin typeface="Arial"/>
              </a:rPr>
              <a:t>şcă omenir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-  motoare term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04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a a X a A 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53341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* Citiţi întrebările care vor urma, scrieţi răspunsurile voastre în coloanele corespunzătoare ale tabeluluicare urmează iar când terminaţi, faceţi o sinteză a acestora, apoi completaţi tabelul pe calculat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sunt combustibilii fosi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e sunt folosiţi combustibili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uteţi da exemple de motoare term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funcţionează motorul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ce depinde funcţionarea unui motor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âte tipuri de motoare termice exist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cel mai mare defect al motoarelor term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149868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057400" cy="114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498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ă rog să desenaţi pe foaie tabelul de mai 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unt combustibilii fos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e sunt folos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i combustibil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ul de la dac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este şi cum funcţionează motorul ter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e depinde funcţionarea motorulu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te feluri de motoare exis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defecte au motoare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re combustib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se modifică parametrii de stare la gaz când e încălzit în cilindrul cu piston mob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ă se poate face lucru mecanic cu cilindrul cu piston mobil umplut cu gaz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tinu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1:36:28Z</dcterms:created>
  <dc:creator>elev</dc:creator>
  <dc:description/>
  <dc:language>en-US</dc:language>
  <cp:lastModifiedBy>user</cp:lastModifiedBy>
  <dcterms:modified xsi:type="dcterms:W3CDTF">2010-06-04T06:08:55Z</dcterms:modified>
  <cp:revision>8</cp:revision>
  <dc:subject/>
  <dc:title>Petrolul mişcă omenirea</dc:title>
</cp:coreProperties>
</file>